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294-955C-463D-9E71-F804E359D4D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4DC-DE13-4BA2-87F5-207C1BD70EC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E0F3-D192-40A4-BBE7-46174FD60F8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63B5-8076-413B-B936-595B233660B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07B-51F6-42DC-862E-8D9F9C50B9F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BFC-DAE9-453F-ADEB-12E350343C5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E277-9BFA-4A38-8A2D-05587B7848A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3DB8-BC07-4F0D-96DE-51EDA10B749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06D2-BF61-4007-AAFA-AFE2AA4A66D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907-3EE8-4C36-AD78-DD11C84869B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0E8-798B-4695-99FD-C7B92A66CB8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2FA-12DD-409D-9A4F-E740CE9C62E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9641-79EE-40F9-A277-1835B2CE109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C25-4DC4-4C37-872F-F92000BDC31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205-4163-40E6-8CB1-38B388377C3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31E1-70F9-4CCD-B791-4767AB1480A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DD8B-A691-40AB-8D1E-F0CA38A2542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B332-4416-4661-9B79-A9283BC543F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020-A0D8-4176-B509-33F6B1B5442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F6D-96C1-4333-89CF-6AA0872688B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7B1-4508-45EE-B74E-85A2DB45108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A6C-2FB5-4509-8D98-DE39C328221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D2B-50A2-442D-8B58-7483A0811FF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58ED-02AE-4763-BCAD-88B9C3B1BD0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0C8-2339-4305-9CF7-189A39E4F8C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4EB-1D46-4A65-9602-8819943297D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6561-0F88-491F-B7B3-70C5A2C758E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0A22-75F9-4040-BB51-065DD4BDF6D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F856-74B1-499E-BF5E-1CC1025B1C1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3C75-6BC3-46CB-ABB0-7BCA59D482B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8B4E-0B7D-4A51-99EF-436D2B2D69B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18BE-2D07-43F1-9463-F1BDFC2F6C0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73E5-C7E9-4BC1-8741-C0B1D462107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1701-03B4-4124-B95B-A5BDC1A7F78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87F2-4A92-45B8-908B-E1D548E0345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3FD8-DD23-4F22-8765-0FB447F9056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BE45-62EF-4624-B29F-5D33CC84C9D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CF96-4689-4203-8562-6A31003BC40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FF15-47AC-428B-B435-07251A8D94D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456-D502-4030-848D-7F7CEFAE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0A5-7371-4657-8F06-8EF953C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62F-5564-46BD-95FF-2B7CBA21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210-45B8-4B27-9904-C253DF51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24A-1E91-407C-9B8F-F1473ECC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47B8-40DF-4981-AB27-4B5725F9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E83B-2F22-4C97-A72F-BF31970B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C936-717F-4205-BB08-99D6B14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2A5-DEF8-4DAC-AC5E-6CBC4B4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69FD-900C-48D9-A7A1-5EA606F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BFB-500E-4643-9C9C-3A54FDE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2C9-35ED-40B1-B69B-496A7B6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7ADD-71EF-4180-A774-D1737795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DF5A-B811-472E-9F19-C9CABAE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B5BC-3717-48FE-A919-636FBACA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CBAF-D004-434D-B9EB-5D55B38E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428-1E77-4F42-BE52-B4E3BDA4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0E3F-8793-4723-8734-E1A1C16F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3CE3-7D62-4511-941B-489F420E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327E-919C-4CE3-8A34-1D091CB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7149-84B6-47CC-B904-FD44066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85BB-769A-4F9B-AE91-503E8C8A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0A7-C8E1-4ED1-A86C-47F14A4A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EDF7-6A97-4397-B13F-258D730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6913-2560-4393-BBED-010D7BFF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B193-024E-4C2D-A430-D4C84BD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D3C0-DEEB-498A-A1D9-6E1C4F6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7E63-C084-49CF-A7D7-9C5C953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58D9-7126-4004-85E6-9239DA7C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9C70-0391-45C8-BBC8-BFF81F8D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81F5-F111-4B58-B629-29CE29B0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43BD-9B61-473A-BFAE-D4589EA7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3A99-F15A-47AF-9CD7-FBB3E4C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20E-EC0F-4321-9495-470ED83B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BA4F-C73C-44FA-A453-C917076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4DC9-48D3-472A-A784-46462F2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BC76-E226-484C-BFE0-30CC8BFD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E2C5-9383-42E3-BC67-D0B7DF0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0C71-5D5D-4CA3-B209-DF0CFBF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B4BB-43BD-477A-B686-25C6179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C6EF-E9DF-4BEB-9E1E-4F4717CA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3689-B76C-46FF-BBEE-22BF5891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6C84-E852-4A26-AF68-CEE78311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93E8D-B099-475A-8596-B3659953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791-9BEA-494F-A6DF-E7C30B88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778BE-F4BF-4B02-BB52-29AEE5ED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B248-AE97-4640-8384-10EDDAC1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1DE1-8F6D-4EC4-ABC7-13A70701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F5B5-3185-405B-B598-E74E1C78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76D4-84D3-4792-9DF9-DC2BF4D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3A66-01FF-415E-BCCE-A9EFBDA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5ED6-3DA8-420C-BDF7-1AC47B0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0D947-D74E-4BFA-8B86-8A20ADF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A462-6CA5-4512-A9D6-FD066761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3DCD-9C68-43C4-83C8-9B80BF89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AA3-A523-4CC2-A16B-38C305EC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730AE-18FD-4E11-BE0B-15E70A4F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AA8E-B283-4866-A111-A5984DDD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93B7-11C4-4A34-BE84-1EEAAC7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9994-CAFC-4C3F-AD5E-80081801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09EB-8184-4CA4-985C-F3D9C34A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B399-2AAB-4039-8870-65A3EDA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9CD3D-ECB8-40D2-91C9-F131C93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93CA-D02B-4FE6-B12C-CE8C326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2FC8-3022-4EE2-88B7-941FCAA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125D-9386-4CDF-B903-C5B52499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3DA-096C-4BB8-A655-FDFE19D1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62E4-8558-4097-AA45-215903FF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80B13-3E0E-4653-8401-FF8EEA6E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48B5-8C17-4038-AF12-A164D070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B5A8-E07E-443C-B0CF-E51BD647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B4BD-0A0B-4C10-9186-A87A54C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583FE-C942-41BF-AA8A-C14C56FB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FF36-2B7E-4199-BE63-C0AB44A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10EB5-F447-480A-A157-E78F2E7C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B30D-3BE5-4051-9CEE-D5B972F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0B0F2-E444-4002-8CA1-C11DFB1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74F-5521-4872-9F90-5398224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682D7-D70B-4B33-A865-2A54EEC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E518E-3114-497A-A11A-ABE86B0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CEE8-9208-45B7-A5FC-6F833AB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2AB4-DDDB-41DD-BF1F-688B4E68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060E-F773-4F35-95AE-3093B481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EC108-9931-474D-ADAE-0EAD123A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EFBD5-029E-4618-8C12-5492E25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90B5D-3360-4F8A-94F1-0E91759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BC087-9682-4B76-9BC8-E05663EA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EB7A1-793A-43D9-B49A-FDE9EC99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2E9-32B7-47B0-ABC6-E8E77197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4189-9F4A-4F91-B7D0-01A3C8A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1D8D-6A5A-4789-B56E-4971CFA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3868-C421-4152-9E93-9798BE64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719C-5193-409E-A6B0-96101E1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E4AF-9F24-4F33-84C4-5981E31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CE7D3-65A8-465D-86F0-40C35741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31B5-51DF-4C4D-B15D-088FBCFD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442D-16B5-426B-AF23-DA91F4A31B35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14A-5F75-47ED-86A7-A10A773AEA03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94FF-BE01-4CFB-A8FD-EF18839CFD26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D57-4D7D-49C1-A3E5-2FD46B7B10D5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AF10-FDF6-4440-9355-FB3209300F99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3A3-89DE-48DE-B634-B8B206E7239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9DB-9715-4EE7-9F84-EE1C34964162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044C-4CFF-4F05-9952-1BE49ACAF6D1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92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Modus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najčešća vrijednost koja se pojavljuje u jednom setu brojeva. Npr. ako je set brojeva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4,6,1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9,3,4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2,3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9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,8,4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3,4,7,8,9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Onda je modus = 8, dakle, broj koji se najviše puta pojavio u niz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787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zavisnosti od prirode podataka modus može biti manje ili više korisna mjera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U našem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u da u uzorku ima najviše ispitanika koji imaju 21 godinu, taj podatkak nam i ne govori mnogo. Međut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 ako pogledamo grafik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tićemo da je distribucija neravno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na upravo u ovom sektoru, tačnije kod mlađe kategorije ispitan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istraživanjima se ne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tko koriste likertove l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stvice proc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ne koje imaju v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npr.: veome dobro, dobro, loše i veoma loš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tostepena skala: „uopšte se ne slažem”, „ne slažem se”, „nemam mišljenje”, „slažem se”, „potpuno se slažem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ovakvim situacijama modus nam daje vredniju informaciju u poređenju sa aritmetičkom sredinom i medijanom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Zašt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3059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Mjere centralne tendencije samo parcijalno opisuju podatke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Centralna tendencija uz mjere varijabilnosti nam pomaže da vizualizujemo oblik jedne distribuci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Varijabilnost je sastvani dio distribuci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1520" y="1371600"/>
            <a:ext cx="7511760" cy="4533840"/>
          </a:xfrm>
          <a:prstGeom prst="rect">
            <a:avLst/>
          </a:prstGeom>
          <a:ln w="0">
            <a:noFill/>
          </a:ln>
        </p:spPr>
      </p:pic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391440" cy="3875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748040" cy="442296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9810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des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2,2,3,3,3,4,4,5,5,5,8,9,10,11,12,13,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je (4+5)/2=4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119/20=5.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978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362320" y="2562120"/>
            <a:ext cx="4267080" cy="3679920"/>
          </a:xfrm>
          <a:prstGeom prst="rect">
            <a:avLst/>
          </a:prstGeom>
          <a:ln w="0">
            <a:noFill/>
          </a:ln>
        </p:spPr>
      </p:pic>
      <p:pic>
        <p:nvPicPr>
          <p:cNvPr id="414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209680" y="19051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l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3,4,5,5,8,8,8,8,9,9,9,9,9,10,10,11,11,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8+8)/2=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= 151/20 = 7.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15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ŠTA MORAMO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AVLADATI</a:t>
            </a: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re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cjenu i značaj distribu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50612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3,3,3,4,4,4,5,5,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3+4)/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42/1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 predstavlja onaj tip distribucije u kojem se vrh distribucije poklapa sa aritmetičkom sredinom distribucije (grafikon 5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Ovaj tip distribucije ima oblik ‘zvona’ pa se često upravo ovaj figurativan naziv koristi za normalnu distribucij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, kao koncept, igra veoma važnu ulogu u statistici, naime, veliki broj statističkih testova počiva na pretpostavci da su vrijednosti normalno distribuira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Asimetrična distribucija je onaj tip distribucije u kome se aritmetička sredina ne poklapa sa vrhom distribucij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Distribucija može biti asimetrična u dva smjera: prvo, ona može biti iskrivljena u desno (grafikon 3) i ona može biti iskrivljena u lijevo (grafikon 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Najgori mogući slučaj asimetrične distribucije jeste ukoliko je ona nakrivljena istovremeno i u lijevo i u desno - ona ima dva vrh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ada imamo slučaj izrazito asimetrične distribucije, onda nam to govori da mi u okviru populacije imamo dve kategorije (kohorte), koje se suštinski razlikuju po datoj karakteristici . Odvojena analiza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31280" cy="5278680"/>
          </a:xfrm>
          <a:prstGeom prst="rect">
            <a:avLst/>
          </a:prstGeom>
          <a:ln w="0">
            <a:noFill/>
          </a:ln>
        </p:spPr>
      </p:pic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85840" y="201600"/>
            <a:ext cx="840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parametar koji pokazuje da li je distribucija asimetrična ulijevo ili udes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Treći momenat distribu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jednak 0 ako je distribucija simetrična, a u suprotnom imaće vrijednost drugačiju od 0 sa predznakom koji je identičan kao i asimetr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to znači da je distribucija nakošena ulijevo, tj. u tom slučaju veća je frekvencija natprosječnih vrijed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zi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onda je distribucija nakošena udesno, i to znači da je frekvencija vrijednosti u korist ispodprosječn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7960" y="225360"/>
            <a:ext cx="8875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je parametar koji pruža informaciju o rasprostranjenosti distribucije po y osi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zapravo govori o tome u kojoj mjeri su vrijednosti koncentrisane oko aritmetičke sredine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Grafikon 2 pokazuje različite mogućnosti distribucije koje su normalne, spljoštene ili zaoštren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Četvrti momenat distribucije i ima vrijednost 3 za normalnu distribuciju (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lt; 3 distribucija je spljo</a:t>
            </a:r>
            <a:r>
              <a:rPr b="0" lang="sr-Latn-ME" sz="2100" spc="-1" strike="noStrike">
                <a:solidFill>
                  <a:srgbClr val="000000"/>
                </a:solidFill>
                <a:latin typeface="Lucida Sans Unicode"/>
              </a:rPr>
              <a:t>štenija 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od normalne ,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gt; 3 distribucija je za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iljenija od normal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Takođe, od vrijednosti koju smo dobili možemo oduzeti  3 tako da idealna distribucija ima kurtosis = 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U tom slučaju, spljoštene distribucije imaju negativnu (-) vrijednost a zašiljene pozitivnu (+) vrijednost kurtosi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52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1481040"/>
          <a:ext cx="8229600" cy="360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-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7.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3.0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1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.3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41.5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4.0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.4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.6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9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7.4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2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.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.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.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.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.6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4.7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7,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28600" y="148104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7.025  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2.576 </a:t>
            </a: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1.60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3=-24.7244/40=-0.618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4=597.0845/40=14.927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0.6181/4.134=-0.15   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ak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ena ulijev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 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14.9271/6.636= 2.25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plj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tenija od normaln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ko oduzmemo 3 od rezultata  kurtosisa dobijamo                 – 0.75 (negativna vrijednost zna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 sp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ljoštenu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distribuciju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4572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U statistici postoje numeričke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linosti imaju za cilj da numerički precizno ukažu u kojoj mjeri distribucija vrijednosti odstupa od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63480" y="1523880"/>
            <a:ext cx="7794720" cy="44276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solutna mjera disperzij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pseg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Range) je najjednostavnija 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a varijabilnosti i on odgovara razlici između najveće(max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 najmanj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min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z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e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u niz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našem gornjem pri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u u kojima smo dali prikaz dstribucije godina ispitanika Opseg = 90–18= 72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POMENA: Range je jedna od mjera varijabilnosti koja je sasvim nedostatna, naime, u okviru opsega (max-min) moguće su sasvim različite distribucije vrij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Standardna devijacija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 jedna od ključnih mjera varijabilnosti koja ukazuje u kojoj su mjeri vrijednosti udaljene od aritmetičke sred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Da bi izračunali standardu devijaciju nužno je prvo izračunati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varijan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Varijansa se izračunava po sledećoj formul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0756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380880" y="41911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Arial"/>
              </a:rPr>
              <a:t>Na osnovu varijanse se izračunava standardna devijacija, a ona predstavlja pozitivni kvadratni korijen varijan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54952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557640" y="594360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rema tome u našem primjeru SD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4952880" y="5867280"/>
            <a:ext cx="271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varij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σ/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liki je udio odstupanja u aritme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j sred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58/3=0.526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ko se radi o cijenama, kakav bi bio komenta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Standardna devijacija uz aritmetičku sredinu nam pruža veoma korisne informacij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ljučna uloga standardne devijacije jeste da se na osnovu nje formiraju intervali povjerenj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63040" cy="1189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262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35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starosti naših ispitanika je 44,28, a standardna devijacija je 16,82. Slijedi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551800" cy="1189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8205840" cy="167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533520" y="41911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Promptni zaključak: Distribucija je asimetrična i to udesno, naime, sa +/-dve standardne devijacije mi smo potpuno iscrp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li nis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mlađi, dok još uvek nismo obuhvatili viso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tariji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Ukoliko je distribucija normaln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68% vrijednosti će biti obuhvaćene +/-1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5% vrijednosti će biti obuhvaćene +/-2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9,7% vrijednosti će biti obuhvaćene +/-3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7724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su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a primanja u Crnoj Gori 300 EUR sa standardnom devijacijom 130 EUR. To znači da oko 68%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pulacije u Crnoj Gori ima primanja između 170 i 430 EUR i oko 95% populacije ima platu od 40 do 560 EUR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predstavljaju sumarne kumulativne pokazatelje distribucije iskazane relativnim frekvencijam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u suštini dijele ukupnu kumulativnu distribuciju u jednoj tački, te prema tome se distribucija dijeli na dva dije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jčešći u upotrebi je tzv 50-ti percentil, koji ima vrijednost medijane. Kada je o njemu riječ, ukupna distribucija se dijeli na način da polovina slučajeva (objekata) ima vrijednosti ispod a polovina iznad medijan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upotrebi su takođe i 25-ti, 75-ti percentil, a nekada se koriste i 10-ti i 90-ti percent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potreba je jednostavna, npr. ako je u našem prim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a godinama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25-om percentilu =30, to znači da 25% populacije jeste mlađe od 30 godina. Budući da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75-og percentila 57,6, to znači da je 75% naših ispitanika mlađe od 57,6 g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a. Konsekventno, pošto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90-tom percentilu 68, proističe da je 90% naših ispitanika mlađe od 68 godin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Budući da 25-ti, 50-ti i 75-ti percentil d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i populaciju u četiri grupe, njih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kvartilima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razliku između 75-tog i 25-tog,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terkvartilni opseg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IQR –interquartile rang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ključna svrha upotrebe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era centralne tendencije u društvenim naukam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tatistič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paramet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-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sv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 jednog numeričkog niza (varijable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‘centriraju’ i iskazuju posredstvom određene (jedne) numeričk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Redukcioniz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ingularni numerički izra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58760" y="15876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23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ruštv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e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nau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karakteristike populacije ili uzork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Aritmetička sredina nekog seta kvantitativnih podataka (numeričkog niza) jeste suma svih vrijednosti podijeljena sa ukupnim brojem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dataka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 kojih s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zorak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astoj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31840" y="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3578400"/>
            <a:ext cx="2210040" cy="1145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80880" y="4894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apomena: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Simbo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 se koristi kada se označava aritmetička sredina uzorka, dok se simbol </a:t>
            </a:r>
            <a:r>
              <a:rPr b="0" i="1" lang="el-GR" sz="2000" spc="-1" strike="noStrike">
                <a:solidFill>
                  <a:srgbClr val="000000"/>
                </a:solidFill>
                <a:latin typeface="Lucida Sans Unicode"/>
              </a:rPr>
              <a:t>μ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koristi kada je reč o popul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2890800" y="4670280"/>
            <a:ext cx="314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pr. Ako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žemo da su ispitanici u našem uzorku stari u prosjeku 44 god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to znači 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va su ključna faktora od kojih zavisi preciznost ovog podatka (aritmetičke sredin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. Od veličine uzork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 Od varijabilnosti tj. opsega (rasprostranjenosti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699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kođe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ste neka vrsta pros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Medijana nekog kvan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ativnog seta podataka jeste srednji broj u situaciji kada se sv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poređaju od najniže do najviše ili obrnu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koliko je niz brojeva neparan, onda je medijana broj u sredini. Ukoliko je broj paran, onda je medijana srednja vrijednost srednja dva broj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1. Ako se varijabla sastoji od 7 brojeva 5,7,4,5,20,6 i 2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2,4,5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6,7,20  M=5 (broj u sredini posmatrano s krajev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2. Ukoliko je pak varijabla sa parnim brojem brojeva (n=6) , npr. varijabla 4,5,5,6,7,20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,5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7,20         M = (5+6)/2 = 5.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U nekim situacijama medijana je bolja mjera centralne tendencije u odnosu na aritmetičku sredinu. Zašt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ke varijable u društvenim istraživanjima su naročito pogodne za medijanu, npr. prihod iskazan u intervalnoj skali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rosjek zarada – aritmetička sredina ili medijana?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30:32Z</dcterms:created>
  <dc:creator>Ana</dc:creator>
  <dc:description/>
  <dc:language>en-US</dc:language>
  <cp:lastModifiedBy>User</cp:lastModifiedBy>
  <dcterms:modified xsi:type="dcterms:W3CDTF">2019-02-06T14:26:44Z</dcterms:modified>
  <cp:revision>87</cp:revision>
  <dc:subject/>
  <dc:title>DESKRIPTIVNA STATISTIKA II DEO</dc:title>
</cp:coreProperties>
</file>